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2ABC-2152-4E11-B38F-218966490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5441-3C1B-4055-92F9-2810461F6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04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680-239A-49CC-867A-9CDA958F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E47-6914-4ED0-B615-BDBF8F6A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5B80-EA98-479E-84FA-568C4D4D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8FD-3966-4F16-9122-34B68D21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C83B-5EB3-4F92-A602-3D1C993B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9DD5-4459-46BF-A4B4-18DDBD1E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4292-A5B4-419C-BB92-2DB3D6FD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E58F-9487-4847-9674-B6CBB07C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0014-BAA6-4009-B45C-B7B2D05D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808A-8BF8-4548-B5E5-DC1212C7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E051-D4EB-4023-B760-E4855D8B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7638-FDAB-4D0A-B728-26CEC2E3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C7ED-B2FB-4312-9CBC-BC97AE82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90D1-A269-4BB4-8F2A-D9ABDD8C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5006-38C2-45A6-B061-A623A8AC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975B-697F-42F7-B84F-37C58C12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9163-E925-4718-9EF4-A2622B17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3A05B-BD06-4606-A15A-A9E17807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030AF-AE7C-4EA7-ABBA-48199B45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EE1C3-37E3-40A3-B3AF-056BB577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74280-BC93-4860-A77C-9FE81E39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5B99B-6D2D-46E7-A3A4-C8FC3244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E01-1A41-4282-93D5-FD35CDDE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5F23D-9B52-4F39-99AD-6CE91A8C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4F675-2694-42D2-9012-9AB92CCA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5DDA1-7C4E-4C1E-8935-D628DAD0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920B6-B8FF-4067-BFE6-33425F79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E6B23-A92F-476A-BEAB-90C0A7D2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0F9DE-D40E-4AB5-995E-674456DC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B1084-7596-4578-A1C0-A3E7B14E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FC58-3932-4F0C-88DC-8DFF3F07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0864-CBD0-480C-AB2D-20B08FE8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4D2-D3BF-491B-BE14-D0D2C4A8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B85-FF85-4CB8-9785-CF7196EE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BD4-E9DD-487C-ABE0-261B3E9E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FB9-2D6E-4238-991A-5F4ED24E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18960"/>
            <a:ext cx="7772400" cy="60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10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9800" y="6427800"/>
            <a:ext cx="226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964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57BDFB-12E5-44CC-A01A-B6FCEFCD0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FEA2-DE21-4F9D-96D4-72AB9189080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6E2C-8163-4312-95EB-4819E936985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9AEE-3291-40C9-8CB1-B0F43176FB2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4800" y="1269360"/>
            <a:ext cx="6455520" cy="1346760"/>
          </a:xfrm>
          <a:prstGeom prst="rect">
            <a:avLst/>
          </a:prstGeom>
          <a:solidFill>
            <a:srgbClr val="adffad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ƯƠNG 5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201680" y="3576600"/>
            <a:ext cx="6892920" cy="2017800"/>
          </a:xfrm>
          <a:prstGeom prst="rect">
            <a:avLst/>
          </a:prstGeom>
          <a:solidFill>
            <a:srgbClr val="ffebc2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8640" bIns="36576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ÂN BẰNG PHA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Ệ MỘT CẤU T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E560-BFB4-45E6-B5CA-54F1D6B8595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836120" cy="214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ét cân bằng chất lỏng A với hơi của nó (P) khi có mặt các chất khí (P’) khác gây ra áp suất tổng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 P  +  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i áp suất tổng thay đổi, hệ sẽ chuyển sang trạng thái mới. Phương trình sử dụng tính toán sự thay đổi áp suất đ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8"/>
              <p:cNvSpPr txBox="1"/>
              <p:nvPr/>
            </p:nvSpPr>
            <p:spPr>
              <a:xfrm>
                <a:off x="2852640" y="4983120"/>
                <a:ext cx="24577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10"/>
          <p:cNvSpPr/>
          <p:nvPr/>
        </p:nvSpPr>
        <p:spPr>
          <a:xfrm>
            <a:off x="5754600" y="4657680"/>
            <a:ext cx="3065400" cy="186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 áp suất hơi bão hòa của A ở hai trạng th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áp suất tổng hai trạng thá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4. Ảnh hưởng áp suất tổng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9360">
            <a:solidFill>
              <a:srgbClr val="2ecb2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Bài tập về phương trình</a:t>
            </a:r>
            <a:br>
              <a:rPr sz="3600"/>
            </a:b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-C I và C-C II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C3A1-DE7E-42CD-8688-7C7570369BB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459080" y="2759040"/>
            <a:ext cx="6242040" cy="223056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2 – 223 – 224 – 225 – 226 - 231 – 240 – 241 – 242 – 243 – 244 – 245 – 24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8CB5-8831-4550-B306-4003ED8B950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330600" y="3684240"/>
            <a:ext cx="2624040" cy="75708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60240" y="1747800"/>
            <a:ext cx="5585040" cy="51102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C3BF-AF38-4BEE-A38D-8B32A39658B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92360" y="1936440"/>
            <a:ext cx="386712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244520" y="3156120"/>
            <a:ext cx="7394760" cy="351504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Ba miền: AOB – rắn, BOC – lỏng và AOC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a đường cân bằng: OA: cân bằng rắn – hơi: đường thăng hoa, OB: cân bằng rắn-lỏng: đường nóng chảy và OC: cân bằng lỏng – hơi: đường bay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Điểm ba O: cân bằng ba pha rắn – lỏng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ường OC’ – đường chậm đông hay đường quá lạnh tức là dưới điều kiện mà vẫn chưa kết tin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Điểm C (37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 218atm) – điểm tới hạn: nghhĩa là khi T&g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ì sự chuyển pha là liên tục không có giới hạn phân chia p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0DE1-4ACF-4C51-8E38-5A454190556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992920" y="3251160"/>
            <a:ext cx="2922480" cy="7574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530280" y="1801800"/>
            <a:ext cx="5118120" cy="5030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"/>
          <p:cNvSpPr/>
          <p:nvPr/>
        </p:nvSpPr>
        <p:spPr>
          <a:xfrm>
            <a:off x="830160" y="861840"/>
            <a:ext cx="80582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6227-4FD8-453B-BF47-4F44BC33313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95000" y="1839600"/>
            <a:ext cx="50626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455840" y="3309840"/>
            <a:ext cx="6986520" cy="239976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Lưu huỳnh rắn tồn tại hai dạng trực thoi và đơn tà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Các đường nét liền mô tả cân bằng bền giữa các pha còn các đường nét đứt mô tả cân bằng không bề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Vùng bền: 4 vùng (rắn 1, rắn 2, lỏng và kh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iểm A, B, và C: là điểm ba bền; O là điểm ba không bền. K là điểm tới hạ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F92B-C1CE-4224-A734-417C4DA477C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56880" y="18396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Dra-kcuong1"/>
          <p:cNvPicPr/>
          <p:nvPr/>
        </p:nvPicPr>
        <p:blipFill>
          <a:blip r:embed="rId1"/>
          <a:stretch/>
        </p:blipFill>
        <p:spPr>
          <a:xfrm>
            <a:off x="1074600" y="2460600"/>
            <a:ext cx="7705800" cy="41623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2244-A88D-4BEC-91B0-1420DA54150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953720" y="18810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305160" y="261468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287360" y="3578400"/>
            <a:ext cx="7480440" cy="223452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ốn miền: kim cương, Grafit, lỏng và kh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ường cong AB là đường cân bằng kim cương – Grafit, như vậy về mặt nhiệt động Grafit bền hơn kim cương. Do đó, để chuyển Grafit thành kim cương ở 298K cần P = 2,2.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. Hoặc 1 điểm nào đó trên giản đ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58B4-6D75-4B64-A75A-17E42D51A84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824120" y="2747880"/>
            <a:ext cx="5583240" cy="171864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6 – 247 – 249 – 254 – 256 – 258 – 25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93B6-E537-4237-80FC-BB8B903F342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2698920"/>
            <a:ext cx="7732800" cy="3271680"/>
          </a:xfrm>
          <a:prstGeom prst="rect">
            <a:avLst/>
          </a:prstGeom>
          <a:solidFill>
            <a:srgbClr val="0aff0a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hái quát về cân bằng pha môt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Ảnh hưởng áp suất đến nhiệt độ chuyển p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nhiệt độ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áp suất tổng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5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ột số biểu đồ trạng thái hệ 1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6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ài tậ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2465280" y="1204920"/>
            <a:ext cx="374652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fff18e"/>
              </a:gs>
              <a:gs pos="100000">
                <a:srgbClr val="fffad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ội 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CA02-326B-4CF1-8B08-063FE3BE86C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611360" y="2990880"/>
            <a:ext cx="6586560" cy="32256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ệ 1 cấu tử gồm một chất nguyên chấ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n bằng pha hệ một cấu tử là cân bằng giữa các trạng thái tập hợp của chất đ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ự thay đổi pha bao giờ cũng kèm theo sự thay đổi tính chất của h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ạng thái của hệ được xác định bởi ba thông số P, T,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0792-B1B1-4562-B024-6CA90347B02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12960" y="2416320"/>
            <a:ext cx="41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p dụng quy tắc pha Gib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907000" y="3051000"/>
            <a:ext cx="38887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k - f + 2 = 1 – f + 2 = 3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69840" y="3906720"/>
            <a:ext cx="7837560" cy="267264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1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1 = 2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ả hai thông số bên ngoài thay đổi mà hệ vẫn tồn tại 1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2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2 = 1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1 trong 2 thông số bên ngoài thay đổi mà hệ vẫn tồn tại trạng thái cân bằng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3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3 = 0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có thể tồn tại cân bằng 3 pha khi cả hai thông số bền ngoài không thay đổ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39D0-195E-4BC6-A667-71518A638D4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966960" y="2419200"/>
            <a:ext cx="7554600" cy="13500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Đối với hệ 1 cấu tử, quá trình chuyển pha phụ thuộc vào nhiệt độ và áp suấ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ối quan hệ này được thiết lập bởi phương trình Clapeyron-Clausi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2649600" y="4608360"/>
                <a:ext cx="167796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Rectangle 10"/>
          <p:cNvSpPr/>
          <p:nvPr/>
        </p:nvSpPr>
        <p:spPr>
          <a:xfrm>
            <a:off x="4656240" y="4278240"/>
            <a:ext cx="3065400" cy="13262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:  Nhiệt độ tuyệt đố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: biến thiên thể t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hiệt chuyển p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782360" y="616104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ệ thức này gọi là phương trình Clapeyron-Clausiu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912960" y="6203880"/>
            <a:ext cx="788760" cy="422280"/>
          </a:xfrm>
          <a:prstGeom prst="rightArrow">
            <a:avLst>
              <a:gd name="adj1" fmla="val 50000"/>
              <a:gd name="adj2" fmla="val 46697"/>
            </a:avLst>
          </a:prstGeom>
          <a:solidFill>
            <a:srgbClr val="ff0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33F4-2EA8-4102-9327-044BD6AD620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068480" y="2828880"/>
            <a:ext cx="735624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ế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tính ml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ính cal (1cal = 41,3ml.atm) thì phương trình Clapeyron – Clausius được viết như sa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3327480" y="4433760"/>
                <a:ext cx="1879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801A-BE38-439D-85D5-B69766B71A8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336680" y="2728800"/>
            <a:ext cx="670860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ối vớ hệ ngưng tụ (RẮN – LỎNG) các đại lượ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ít chịu ảnh hưởng bởi áp suất do đ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782720" y="4334040"/>
                <a:ext cx="1876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AutoShape 7"/>
          <p:cNvSpPr/>
          <p:nvPr/>
        </p:nvSpPr>
        <p:spPr>
          <a:xfrm>
            <a:off x="4375080" y="4557600"/>
            <a:ext cx="858960" cy="563760"/>
          </a:xfrm>
          <a:prstGeom prst="rightArrow">
            <a:avLst>
              <a:gd name="adj1" fmla="val 50000"/>
              <a:gd name="adj2" fmla="val 38091"/>
            </a:avLst>
          </a:prstGeom>
          <a:solidFill>
            <a:srgbClr val="ff66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5875200" y="4334040"/>
                <a:ext cx="19098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T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A136-6C3C-4AF1-B62D-2163A8D27E3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7075440" y="4473720"/>
            <a:ext cx="2054160" cy="21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23960" y="2448000"/>
            <a:ext cx="8305920" cy="17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ô hình xảy 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ỏng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ắn 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p dụng phương trình Claypeyron – Clausius 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4397400" y="4578480"/>
                <a:ext cx="13701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Line 7"/>
          <p:cNvSpPr/>
          <p:nvPr/>
        </p:nvSpPr>
        <p:spPr>
          <a:xfrm>
            <a:off x="3502080" y="313992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8"/>
          <p:cNvSpPr/>
          <p:nvPr/>
        </p:nvSpPr>
        <p:spPr>
          <a:xfrm flipH="1">
            <a:off x="3489120" y="325116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3517920" y="347040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3504960" y="358128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055520" y="568800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4352760" y="5562720"/>
                <a:ext cx="17132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Text Box 15"/>
          <p:cNvSpPr/>
          <p:nvPr/>
        </p:nvSpPr>
        <p:spPr>
          <a:xfrm>
            <a:off x="1832400" y="5708520"/>
            <a:ext cx="24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ơ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ỏng(rắ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6019920" y="4219560"/>
            <a:ext cx="828720" cy="20671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à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7086600" y="4876920"/>
                <a:ext cx="15908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0"/>
              <p:cNvSpPr txBox="1"/>
              <p:nvPr/>
            </p:nvSpPr>
            <p:spPr>
              <a:xfrm>
                <a:off x="7074000" y="5842080"/>
                <a:ext cx="2055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21"/>
          <p:cNvSpPr/>
          <p:nvPr/>
        </p:nvSpPr>
        <p:spPr>
          <a:xfrm>
            <a:off x="6392160" y="6095880"/>
            <a:ext cx="5493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6133320" y="2637000"/>
            <a:ext cx="2942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ypeyron – Clausiu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4"/>
          <p:cNvSpPr/>
          <p:nvPr/>
        </p:nvSpPr>
        <p:spPr>
          <a:xfrm>
            <a:off x="7272360" y="3220920"/>
            <a:ext cx="1393920" cy="898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78FF-E290-45A1-9C28-0BD5D7BF119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91880" y="2603520"/>
            <a:ext cx="7475400" cy="50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y đổi hẹp trong khoảng nhiệt độ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4014720" y="3564000"/>
                <a:ext cx="1490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11"/>
          <p:cNvSpPr/>
          <p:nvPr/>
        </p:nvSpPr>
        <p:spPr>
          <a:xfrm>
            <a:off x="3911760" y="4683240"/>
            <a:ext cx="1519200" cy="73188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4"/>
          <p:cNvGrpSpPr/>
          <p:nvPr/>
        </p:nvGrpSpPr>
        <p:grpSpPr>
          <a:xfrm>
            <a:off x="3311640" y="5543640"/>
            <a:ext cx="2855880" cy="1054080"/>
            <a:chOff x="3311640" y="5543640"/>
            <a:chExt cx="2855880" cy="1054080"/>
          </a:xfrm>
        </p:grpSpPr>
        <mc:AlternateContent>
          <mc:Choice xmlns:a14="http://schemas.microsoft.com/office/drawing/2010/main" Requires="a14">
            <p:sp>
              <p:nvSpPr>
                <p:cNvPr id="197" name="Object 9"/>
                <p:cNvSpPr txBox="1"/>
                <p:nvPr/>
              </p:nvSpPr>
              <p:spPr>
                <a:xfrm>
                  <a:off x="3589200" y="5653080"/>
                  <a:ext cx="241416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Rectangle 12"/>
            <p:cNvSpPr/>
            <p:nvPr/>
          </p:nvSpPr>
          <p:spPr>
            <a:xfrm>
              <a:off x="3311640" y="5543640"/>
              <a:ext cx="2855880" cy="1054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13"/>
          <p:cNvSpPr/>
          <p:nvPr/>
        </p:nvSpPr>
        <p:spPr>
          <a:xfrm>
            <a:off x="3755880" y="3446640"/>
            <a:ext cx="1785960" cy="942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1:53:40Z</dcterms:created>
  <dc:creator>Quang S.O.S</dc:creator>
  <dc:description>Hoá lý 1</dc:description>
  <dc:language>en-US</dc:language>
  <cp:lastModifiedBy>Quang S.O.S</cp:lastModifiedBy>
  <dcterms:modified xsi:type="dcterms:W3CDTF">2011-05-03T06:52:54Z</dcterms:modified>
  <cp:revision>344</cp:revision>
  <dc:subject/>
  <dc:title>Chương 5. Cân bằng pha hệ 1 cấu tử </dc:title>
</cp:coreProperties>
</file>